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1.jpeg" ContentType="image/jpeg"/>
  <Override PartName="/ppt/media/image36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9.png" ContentType="image/png"/>
  <Override PartName="/ppt/media/image38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  <p:sldId id="301" r:id="rId79"/>
    <p:sldId id="302" r:id="rId80"/>
    <p:sldId id="303" r:id="rId81"/>
    <p:sldId id="304" r:id="rId82"/>
    <p:sldId id="305" r:id="rId83"/>
    <p:sldId id="306" r:id="rId84"/>
    <p:sldId id="307" r:id="rId85"/>
    <p:sldId id="30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slide" Target="slides/slide46.xml"/><Relationship Id="rId80" Type="http://schemas.openxmlformats.org/officeDocument/2006/relationships/slide" Target="slides/slide47.xml"/><Relationship Id="rId81" Type="http://schemas.openxmlformats.org/officeDocument/2006/relationships/slide" Target="slides/slide48.xml"/><Relationship Id="rId82" Type="http://schemas.openxmlformats.org/officeDocument/2006/relationships/slide" Target="slides/slide49.xml"/><Relationship Id="rId83" Type="http://schemas.openxmlformats.org/officeDocument/2006/relationships/slide" Target="slides/slide50.xml"/><Relationship Id="rId84" Type="http://schemas.openxmlformats.org/officeDocument/2006/relationships/slide" Target="slides/slide51.xml"/><Relationship Id="rId85" Type="http://schemas.openxmlformats.org/officeDocument/2006/relationships/slide" Target="slides/slide52.xml"/><Relationship Id="rId86" Type="http://schemas.openxmlformats.org/officeDocument/2006/relationships/slide" Target="slides/slide5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B04D-967E-46D9-8453-E85ED111C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5261-439B-41D3-B932-303096CFE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3A98-8D1A-49AC-8834-5FFB1E0FD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представља златни стандард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вање мера учинка (перформанси) здравствених установа и здравственог система, а  обезбеђује   здравственим  радницима  поновни   увид  у  раније пружену здравствену зашти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ј начин би ризик по здравље пацијената требало да буде сведен на минимум,  а да корист по пацијента буде максимал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9638-8115-4929-962A-CA6A99869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1B24-D34B-4232-B9CB-C969C4812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0FD-B25A-4EED-AD8C-927F2E66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C59-2F9B-4DAF-BBFF-7E587F9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5401-F517-4146-9960-59267CAF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36C5D-A354-46E5-B76F-32A1B7DB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D96F6-763D-4FFF-91A8-CFD30E8B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5C80F-454C-4440-BDED-68EABEB6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B3268-8916-44B3-B39F-7DE6C8E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5ECC4-B128-4FD9-8259-69D1485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3655A-DFF7-4FE7-968E-A18045C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B3C1C-7CB6-4802-9750-81522EF8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C45FB-0B6C-4764-A529-9BEF1A0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AE038-1E7C-44C2-AFEA-5FE02904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415-B9FA-4A36-9A00-03A672F7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89E7B-4D99-41D7-A5BE-455F9673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13E25-6B77-43EE-A049-1341DFDC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7A8FF-9900-43CC-A35D-61E8A8D9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F3057-5C64-4B77-9874-67824E41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AF67-27E0-4CC9-AB90-3CED6A24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91CDF-ED81-41F9-A859-8CF9A2DF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2A30-2662-455D-98E1-75B029E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756C9-0B32-4E0E-BBF2-8E17927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FA84B-6F0A-4B10-A3EC-09E655E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2F6EE-909C-4B24-91C4-9784B55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658-8E24-47F0-A24B-ECD9157F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76373-EC2D-4F7D-8924-59F9B536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1AB96-9F0F-479D-BAA1-BD1CB3F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C7F9A-F04C-476F-A1E2-D6E9DDFA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229A-F81A-47F7-BCE1-91157F9E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FF77E-551F-4A16-8380-EC02774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7279-9303-4F08-A813-27B6DAB5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026B8-CCDC-412C-90CE-3160FF9A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EDC9F-CDDA-4A71-AD0D-D3568F5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FCB10-5901-40CC-96A1-49FA5591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78A60-D7DF-4133-8A9B-E7D4994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C6C-3E0D-465F-B3C9-C83C18CF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458FB-DEFD-45CA-9B05-3D294200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F0044-2613-461C-BE4C-BFA8C83F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8304B-6012-4440-BC54-7BF4812D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AFB02-4A02-4C0C-ACA3-8B0AABD3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C8807-C610-4C46-BF94-4D4604B4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3C24C-6408-4B58-95F9-C29C0A7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EB848-851F-475B-A034-8D004CC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BE369-38CC-412B-BA1B-523DBED0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EA312-526A-4112-BC00-F53F2E59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0AF2-7EDB-41A1-B24D-F658A78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0FD0-DB26-46D5-841B-FB4EC6E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44AF1-6678-40A9-B73C-C4E9A88E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1E26A-F71C-4F87-A7CD-C04AE5B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687F1-2852-4D0E-92A4-78B71A40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778DA-B39D-4211-A039-3DA42F83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D76B7-16EB-4727-A090-8E875BFF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0928C-FEC8-4CC3-AB88-6A894F82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8D1FE-6DE7-4A11-BB49-A48E2AA2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51CB9-3639-40CF-9B84-CB78642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4F7FE-D5F4-49F5-8C68-47E0E750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F8D26-7987-4C70-BE45-9B3E95D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4BFE-13F0-45FF-ACC7-5AE5A2B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2ED96-AD12-4BFA-B310-1602D2FD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1D8AE-B4DD-4FB1-BE73-4A99F86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16E81-65A2-49D7-B35D-858978A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9DFBE-C961-496D-B10C-AD4E985A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FE682-D73E-4C59-9827-069B5A6A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C293-10AD-4726-878A-232EB411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94D4E-7A4F-4845-8BFC-0780BA4F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F0FF44-FC0E-4BB3-9B62-32E06D33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E9CA8-5488-49E5-B4A3-2F79E2D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6DC51-2910-461B-B162-6BF16A52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E03-4D9D-4945-AB9E-B3666917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1E645-4FA7-4ECA-B0F1-0CF185E5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DE07B-A4EA-40C7-A86D-692613C9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2252C-8DD1-4FDD-9672-473DF0FD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E4696-0F5F-4EA6-890C-5C9F2316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B37FA-74A6-40F8-83F9-BFAA627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E97549-F116-46A5-9B4A-33140884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20CFE-9425-4093-8AA6-8BA4679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F0131-F1AB-471C-8C07-82C81D4B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B3DE7-BC82-483F-96F9-704CEC93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5ADF5-9EAB-42C0-9714-3AC1141C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0B1A-50B3-4086-A4B7-86CE565B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CF94D-CE95-4BCC-B8FB-3D8A11C3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70234-3455-48FD-82C0-F0BDE4C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ECA60-7F88-4284-8C06-A1798B6A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ECFF9-20A2-46E2-9D74-0DA012F0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735EA-FF3C-4AA8-A5EC-7BB2E728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45641-AB0E-41E5-B208-CB321AD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9FB84-F5C1-4C12-AB11-F913E69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EA17E-71F0-418B-9D53-B354A3C1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7868A-8E24-4BE5-B9AF-B721636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E93CA-AB6C-4020-A8E0-56769DD3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FABA-E20F-4D03-B4A5-66225ED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239267-059A-4A51-9132-F92755F7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AC062-D4AC-4BFB-BFFC-019D8A13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19319-366D-4F09-AC51-C1639BB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0FCBC-5070-447F-A5B5-96D2230A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94D9C-9CBC-4B27-8663-7CED214F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DDB38-ED9C-4597-A553-22A7AE84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1C665-235E-443B-BA43-AEC606CE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793D6-8680-4099-94E0-06570C9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F9541-089F-4F78-B675-EA78660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3CF52-1CE4-492A-BACF-EF4FDE01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E2F4-C899-4368-9700-D7F27D1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8D7B9-AE2C-4EBE-97CE-ED03196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31CEAA-44E3-4260-A80D-2E3EAEE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DA515-AA24-40A8-AC2F-4A6A4D3E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F99D4-0D98-41E1-B6EA-FE1FBA28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67C56A-1B60-4501-A418-B909ABDF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58152-93DA-45B7-AC44-DA4ED520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A9FB2-A838-468E-BEC7-E9EB1DE4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B3191-D1B2-4877-91E4-7206197F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BD5CC-1890-43F6-84C2-C452C604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B2A12-90C6-406B-9D9D-6960AB2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A50-57C7-4C22-8791-FEC43AC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B8FC-18CD-4E78-B57E-A4563DF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071C2-0C19-41AF-BB57-360B848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74917E-C42E-47D0-B88F-02AD368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52B9B-61FD-4144-BF95-69478CFC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45670-6581-47B0-8B64-759B0BC1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EF450-D6BB-408C-A5E6-D20F92EE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721AC-9708-46DE-8FB7-520CE069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197FE-E2BB-4A5F-B725-772788A8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6FE11-8B0C-4A8B-8E97-6A881E8C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DC6E7F-0B91-4E81-B13C-74A6CC04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2AEC34-86EA-4F79-BB3C-9619460F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AE0B-8EDC-4CBC-8767-FA40DEC3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3BF11-4701-45E2-A1A7-71FF24CD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05419-58F0-476E-9DC3-B42451B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34223-5D49-4096-851A-25256642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70FD1-5208-4856-A5A7-0CE4E5B5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B2925-1990-430A-832C-D181BF06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B8C91-E9BD-4C70-95EB-FCFDB122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18EE84-AF40-49E5-B870-57AB62FE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692D7-150D-491B-8F5C-10CB36D0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23834-AC65-42D5-B57B-6BE4784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78B597-C62F-4598-91E8-E695D4EF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03F9-C079-4EC0-AE71-5190A4B7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4309D-5B0E-4674-B243-8696F2B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9B57C-631B-449F-9BF5-34E04EEA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0B26D-CE81-4BC8-A27D-521619FE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C8AB8-80DA-4CD0-BCEB-52A2920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EBAA68-612B-4B08-AA7F-CBE9EF7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A3331-1FA8-4499-A811-DF3828A1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97E076-59C7-4B39-8E62-B272C005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01AF2-D198-4874-854C-81CC990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EB469-13E6-4FC6-A757-22F5FFF2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18A8A1-0272-4A7D-8F11-0150999D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633-A6AB-4DE9-9716-CF160113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4FA59F-8952-4AA9-BF0E-2461525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61CC9-163F-43E1-8BF7-6526D787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F52D1-817D-4E16-82F4-43FADC7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E4418-25C6-4F66-BB9B-9B774B8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D82F9-8597-4501-8F97-44EDCDBC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65C673-3ECB-48C7-AFB4-F0A04A43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6CB18E-343B-47C6-8143-04F7DE35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67531-C7BC-499B-9D65-447FEC3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CFDD2-41C4-44E8-AA34-F360B62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4FB02-BA26-4523-A32B-058CB4F9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2A5C-CADD-40F7-B17C-4C44051A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A012B3-B2AF-4CDD-9AA6-F562A8C2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8F7C7-6597-4323-B112-85E16BA8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E90BD5-313B-4916-8322-1724FD4A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4729C-5A59-4F21-A1FD-3D324144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BF75B-5DDF-48D0-A88E-81A7E1BA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E70CB-611F-4ECC-A23A-EE81CDE4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2ABDC0-AF98-47D8-969C-78A3ACEA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9EEFF-9FE9-4991-AF08-B571C66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41B4E-2717-43CD-87B3-7FBB30F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39F22-3564-499A-ACBE-252652F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BB515-2539-4FA8-B4CE-42C6E368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ABA4C5-38B2-4217-A322-6885BDBF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1D948F-DF8C-4422-8645-0C01C0AA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396336-24FA-49BC-81AB-3997F99F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0A6AD-DDC8-4EAE-BA6E-95A34E27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955C62-3665-4398-A1A8-F401ED38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BB0FC0-756E-435E-9962-6CEC0F4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76418-6972-4B4E-B063-CDFEA237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49C0F-9D21-4667-821A-6A67223F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ACD9F-F25A-4C47-A4A1-E0E04B9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723759-0638-4D64-B0D1-533D1D6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D159-E51C-4140-9049-8D37D3B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900A82-6A53-43AF-B8C3-0FBCF72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D5462-852D-4F09-860C-83D54F9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4D9069-B152-44F1-A36E-11590F43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4E5EB3-17DF-46B1-87E4-F7DB21FF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127FCC-CD2D-48EC-86FC-F1233F57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6C9583-46FA-4880-AFB2-C56E36CC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28C28-0CF7-4F2D-8A51-4A6D8661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6D0F16-E325-4A95-9F2B-95C9CAB6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8F5D00-F4BC-4440-8330-84127E3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789943-FC9C-47E2-94F7-CDF18C93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F897-6590-4B98-B58B-DDBDB16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73A3F-2411-461C-A480-FBB5FAD4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5D06CD-DDF3-465D-A3B6-0870ADF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248D09-01AF-450B-936B-8F9295B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39349E-4F7E-4078-84AB-5F06B9D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8B7C7-EAE0-41F2-B6FF-59852913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4839E7-A680-45E1-9F35-AEA20700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846E1-4627-4947-9C13-5112F3CE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203D5F-DE1D-4940-AA56-3858BF0B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CD3708-A43F-4073-AAA8-44E667F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C28978-8407-483A-A9CC-AEEFDEF1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A3B0-9F6B-48D2-94CA-1D1D197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22EF21-45D6-42DA-8F2C-CA78570C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0238AF-61EA-4AE5-A46A-F64BF6BE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E161CE-C535-4DB1-BDCA-C0D697AA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0827A-B734-49A0-A1A9-074A839A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72FE45-4728-4FEF-AE00-606745C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D938AD-80E2-47D3-9394-EAA05B2E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72F19-03AC-4B3E-A5A1-E3107EB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C8A98B-C163-402C-AFA4-5CF15BA3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076DFA-7622-4D7C-A4B6-DCF64DA0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4C961B-EAE7-4AD0-A45E-D67DE24E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7E6A-D6B9-4FE6-A5AB-9B9C26B5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B5A436-887D-4BCD-894C-CC180F7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1BFC16-251E-4C6E-9FF1-4618EB70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38DE7F-D124-4520-ADA7-860CDD9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356D16-8FD2-45B7-B24B-C2EF0B4A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C63964-4BEE-4530-A2DA-7F74641E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9B19D9-928E-4F8F-A4AD-593292D1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9849AF-359B-4A8B-8881-B7E8334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8756A-1D12-4717-848E-975CA87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877340-4240-4BF8-A8C7-61213611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E5E9E1-F44A-4DD6-A483-35BE5172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96B-B328-4E85-B12B-14C9321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48C07-DB65-41A3-8231-95FD3AB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FD4FD5-E651-4622-9669-F6CBEB9A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923728-0CA1-47A2-861A-CA48321B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A52395-FCC6-4CCF-848E-1FECDC22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CB6F14-F546-459E-9E38-F282853C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6BCFEA-57E7-4A9E-BDC1-A7F48496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1B2296-530F-4BF0-A1FB-1D296377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81894D-9DC7-47DB-902A-F52B1411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0977BE-D650-4989-861B-E8DDCD7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BEFDFA-CC56-463C-AE38-D0874F5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0FEB03-16AF-4FEC-BBD2-ECBD34D7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E75A-1829-4831-A5F3-B9672179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BF5F3-CD85-4D0B-8DB4-AC69F9B9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69AD06-21F5-4F97-B4C2-8D5CBD1F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95247C-BB25-483F-A98E-7BA35F28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CA84ED-2E8B-4019-9556-1A64C771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E808B4-0EDF-4FBF-A418-B4416D0C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08D71C-54BC-4588-822E-8888203A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4247BA-2CD7-451A-9C86-E929EDE2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1B5DF5-E0CE-4AA6-AF91-4F2C0FD6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A2B48A-46B6-44ED-B23A-4D100119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BBCF35-C160-4765-A419-99CA187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A5AA8-094B-49B6-AE2A-1F49D4E2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742B3D-FC64-4DCC-A4C6-C3121F66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B5B3B-DCDB-4CF0-93EA-55C9029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8A4304-79A1-43C6-9E6E-6A50467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25462C-3424-4865-AA4E-DC27B69E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9AF0B5-0607-4F38-B6B8-EAC918E5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339B40-5EE6-4190-9580-859A464E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0C5821-EA00-4E3F-969A-8854D833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EE7797-04A7-45F6-98C0-1253B57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3BF54E-4571-4BE9-8DC2-A971469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CA88D3-4CA7-41BE-9521-5C3CA9D9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2865-47B9-4DBB-B851-0362156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E0F3F0-205C-47EA-9C30-0898FDE1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3AC67B-9D3F-4D09-A3B9-5AD3BD5B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02B8EC-51CD-4D05-BB1A-D58ECFA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F7695-3ABD-4E27-A15F-B9928F49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BC6EBD-5966-4C89-91C4-12C677B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ACB362-4415-4421-9232-7A26D3F3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F2A0F6-4A54-4DE8-9061-DA23FB69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D8844E-1A80-4BE4-82B8-E9D6A473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872F35-A60C-49A8-A541-B2300F60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BA05A8-96A1-49A6-8489-433ED501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21DB2-F2BF-4108-A528-AB60D2C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093648-C9A0-4FD1-A2C3-3922436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FF5002-71DB-4DC2-818B-7881B37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B49124-9868-42D9-AD70-B29801E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72F70F-7B0E-4540-AF78-8FFBF00C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31031-A0EE-4384-AE53-FE680F5A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EED86-5F54-41C3-8AF6-DAD68FCA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BDAC89-E140-4676-9544-0C7EBC30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109C19-5561-411B-BA71-7B27AD5D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8A1ED3-B679-42AF-BDD0-81FB8E36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FEE873D-F439-4B81-945D-D9F9E014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DE5A-CAAF-478E-8464-95644317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91D253D-527D-4658-8E6E-7803ABA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8CD1E9E-9AAE-4C64-8BA9-A4BEA04C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F7BEE5-70F8-4D55-BE8A-7CE9D627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5B002AA-83EC-4674-AD4B-F213F22C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59E49D7-A9CB-4C26-9CFF-4B4009ED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0A69FC9-EDAE-4E37-9BE9-3DBA27C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F7E507-CEE6-4171-9453-71ABE6FB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08820F0-D199-4801-B207-62C13E6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3276C2A-8E56-42A7-B71A-4D4D00A4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DE99B60-8F2E-435C-A922-8CB157A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E8B5-760D-4287-BAA2-71420185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2D9D1C4-DEA7-4EBA-A901-3EC3BDCB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8295109-0875-40B9-B40F-C42D307F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454A9ED-0933-4E92-B6E8-9D80A16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087534A-B007-4327-B0F8-D79D94B6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D30A900-FDD9-4295-8FBD-31337A2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391AF2D-909A-4B1D-88D8-C332D4E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7911A70-201A-4F4B-A85A-F5A04EC4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1B010D-62FE-40C1-A187-305A69D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0185CA5-3F54-4497-9A80-984A2150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5C927D6-BC11-41F7-83E2-E4F5B620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3D4AE-4CBA-46F0-8899-BC1CFBE8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CBC7A60-9AAC-4CC4-9D7B-BAD9DC1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E0DAC79-4661-4488-8388-AEEF0776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213C2A6-8545-4D80-8F63-C2241F57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34F4-DBAF-4F1E-9CB8-2168B52D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653E-810E-4813-8586-E3CD379C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CBB-1F53-41A9-B87E-483A2926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C6B4E-D467-446B-9922-1A2BF452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4108-49CF-4650-8AC2-8894616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62270-1C8D-41AD-B252-8F9FDC7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B87D-E0EA-468C-8B68-84D44F8D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01736-5B9E-4820-9418-9C70A170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D730-C0BB-45CF-967E-3E6F5E44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93A71-A2C1-45B2-A9DD-FA8B3D17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99F0-5FD0-4BE1-945C-7760603E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F024-8815-4959-BD31-986ECB91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62E7-2571-4305-AF11-5ED4C47F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F47-9365-4E72-A5BE-7B212BB1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8745-ADB8-444D-92D3-2485CF9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66B2A-639C-4CD7-A586-32BA10E4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DF8BC-3A1D-4626-A7CC-7EC9E38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24C7A-B8E8-4B68-A6A2-64DE3803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E5D9-17F9-411E-BB7D-C90575DE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0BC7E-1FD7-4EAF-956A-9DDB6F9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34E78-5A42-4215-82DC-9E2AC247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E4CD7-7610-4ED9-A462-22A493CA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E4CDD-1608-45EE-A17F-C235A85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827A-6615-4C21-AA1D-7F9A4BD7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0B5-B7DD-499E-9486-C54BEFC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A52E0-07B5-43A8-8CDD-9B986D93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37989-C562-4C34-8C57-44AD647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E73DF-EE90-4485-8F69-83EAC048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9672-F1D7-4791-B5B8-0D781BE0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6A4E-9311-4F9E-A212-A753FF7A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706F-7A39-4072-854B-33F3D1C8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D8BC-0F2D-4A73-85EB-97CE0BBE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EC690-A0BF-4C28-9600-AD80213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5A54-8200-4313-917E-B40B564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6BAF-25D0-4F58-A9B6-66DBBF84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DDF-8C0D-4929-9B6B-8169C956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B63F-F382-49CC-8438-873A076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4E550-FCA0-4907-BC57-16BB8781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C439-9CC7-45FA-B19F-451BC2F3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FCD8-44DB-4737-8308-ADFDDBB5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739C-22D0-452F-93AB-8FBE9FE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65E4-C07A-4722-9B49-E366AFFD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67145-EAFA-43C8-B44E-9CBA48B0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70F3F-790E-4E9C-B6E2-3F0F29D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9C1A6-7A1D-4B1A-B2C8-311B39C4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A24A-02AB-41FF-A153-355B038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D8E-5D77-4B0D-BA8C-CAA644C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6E5D0-5AB7-4431-B941-1D9285D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C09EE-B596-4843-84E0-E5903731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00FD1-9919-44EB-9EF2-91B786B0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AAA5-220B-40C4-A2B2-34E2D72B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4C441-AF7F-40EA-8E5F-55C962B1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EC965-A881-4C5C-9473-421C464C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070D-2D57-4F82-9847-3ED3D13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D4A9F-211B-4F7A-BF4A-4D562DB6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FD87D-72D5-466D-A754-BA50201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0417B-5918-4200-BDF9-4D1F2990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F2C-A903-4360-82E2-2522CE4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18171-AF3F-4F10-B86E-E6FAE47C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00FCE-6D85-4858-A5DD-D72691A9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9F9C2-EAA2-470A-8B81-49D84F8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B0203-9576-4DF4-AB9A-E538D550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70ACE-7E3E-4FA5-9645-CCF430D2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E0921-E3A4-4510-95E6-8E0A1233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4974-8B25-4A8C-879C-F50AF29F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0D325-7C17-4E1F-92BF-22EE7DC5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81EB6-FB32-4C03-92F6-554A8E45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CE209-0863-481E-8A44-99BE369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A56B-A0E3-4981-A847-7B8C61969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52B-E2E3-412C-8578-06932603A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113-00AA-4BF0-B721-E87EEEFFD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C8D-AC1E-4F9B-A0C0-7F45C976E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C67D-2528-4B35-B9C3-C5F6557E9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510-5D07-405F-A48A-D424F65D3F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0D7-146A-484E-81F5-925F1F2C4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43F0-6819-4720-8EC6-85A9ED229C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B935-4697-402E-9A60-1A85C74F7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DEB-773B-4853-BD4E-FF87495B1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E211-3D2B-4F62-9E57-EB44F47B3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94B-D97D-4BDE-A931-2B2BF33A3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134-DE56-41B4-B1BF-17C1A1C70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D6DF-3948-4CF3-AA2F-DCA098CEF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E77A-1A9B-4C50-B216-EC04F24DF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97E-1D1D-4531-891E-FA6B38577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D3D0-6BBB-4CDC-A45B-DBEA77434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CF03-85B7-4AC4-A737-CD3E94647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0D89-0A00-4A96-9BF5-357279DB7EA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07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8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8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2ABF-64C2-487C-A117-FCC92B9DD0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FDF5-426A-4F5B-A699-C5DBA14458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449-81D8-422B-8FFF-51131780048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0BC-128F-49D4-8773-02AA37E8F7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8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B7C-B976-40BC-B4F9-6A7123D03F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9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sldNum" idx="9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AEA-A245-493B-8E0A-D43CE4464C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ftr" idx="9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2D1A-4411-4E72-9FB3-E4E99BD47C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CB8-B651-4EE1-861E-69705EFFF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4832-59D7-4F29-B48C-8C55657F3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09C8-910A-4AD6-AF5D-6FCC822C45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8764-9767-4034-84AA-FB16E17CD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90F-D4AA-4092-8433-DCD5B88B1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4MGt18zRAhUBshQKHSYED2cQjRwIBw&amp;url=http%3A%2F%2Fwww.hrvatski-fokus.hr%2Findex.php%2Fdrustvo%2F16874-aforizmi-hypokrat-stari-birokrat&amp;psig=AFQjCNFfH1rLQ9c7VzfeikKhTdtvLArx1Q&amp;ust=1484861873521901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ЗДРАВСТВЕНИ ИНФОРМАЦИОНИ СИСТЕМИ </a:t>
            </a:r>
            <a:br>
              <a:rPr sz="32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06" name="Picture 6" descr="C:\Users\Mirjana Petrovic\Desktop\images.jpg"/>
          <p:cNvPicPr/>
          <p:nvPr/>
        </p:nvPicPr>
        <p:blipFill>
          <a:blip r:embed="rId1"/>
          <a:stretch/>
        </p:blipFill>
        <p:spPr>
          <a:xfrm>
            <a:off x="4724280" y="3489480"/>
            <a:ext cx="3733920" cy="29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7" name="Picture 7" descr="C:\Users\Mirjana Petrovic\Desktop\ZK_zveza-potrosnikov.jpg"/>
          <p:cNvPicPr/>
          <p:nvPr/>
        </p:nvPicPr>
        <p:blipFill>
          <a:blip r:embed="rId2"/>
          <a:stretch/>
        </p:blipFill>
        <p:spPr>
          <a:xfrm>
            <a:off x="685800" y="3471840"/>
            <a:ext cx="380988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8" name="Picture 4" descr="Logotip Medicinski monohroamtski"/>
          <p:cNvPicPr/>
          <p:nvPr/>
        </p:nvPicPr>
        <p:blipFill>
          <a:blip r:embed="rId3"/>
          <a:stretch/>
        </p:blipFill>
        <p:spPr>
          <a:xfrm>
            <a:off x="3657600" y="1219320"/>
            <a:ext cx="1630440" cy="209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у Републици Срб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572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упљање, чување и дистрибуција података у систему здравствене заштите Републике Србије уређени су закон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Picture 4" descr="C:\Users\Mirjana Petrovic\Desktop\176.jpg"/>
          <p:cNvPicPr/>
          <p:nvPr/>
        </p:nvPicPr>
        <p:blipFill>
          <a:blip r:embed="rId1"/>
          <a:stretch/>
        </p:blipFill>
        <p:spPr>
          <a:xfrm>
            <a:off x="3581280" y="2971800"/>
            <a:ext cx="512136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2590920" y="1890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„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 107/05 , 72/09 - др. закон, 88/10 , 99/10 , 57/11 , 119/12 , 45/13 - др. закон, 93/14 , 96/15 , 106/1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8"/>
          <p:cNvSpPr/>
          <p:nvPr/>
        </p:nvSpPr>
        <p:spPr>
          <a:xfrm>
            <a:off x="934920" y="256428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ЗАКОН О  ЗДРАВСТВЕНОЈ ДОКУМЕНТАЦИЈ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ВИДЕНЦИЈАМА У ОБЛАСТИ ЗДРА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23/14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106/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9"/>
          <p:cNvSpPr/>
          <p:nvPr/>
        </p:nvSpPr>
        <p:spPr>
          <a:xfrm>
            <a:off x="250920" y="3789360"/>
            <a:ext cx="8713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АВИЛ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обрасцима и садржају образаца за вођењe здравствене документације, евиденција, извештаја, регистара и електронског медицинског досије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9/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2327400" y="5877000"/>
            <a:ext cx="5184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ЈАВНОМ ЗДРАВЉ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5/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539640" y="5013360"/>
            <a:ext cx="84250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ПРАВИМА ПАЦИЈЕ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45/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2340000" y="18219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АТИСТИЧКИМ ИСТРАЖ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", бр. 83/92, 53/93, 67/93, 48/94 и 101/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11" descr="C:\Users\Mirjana Petrovic\Desktop\120.jpg"/>
          <p:cNvPicPr/>
          <p:nvPr/>
        </p:nvPicPr>
        <p:blipFill>
          <a:blip r:embed="rId1"/>
          <a:stretch/>
        </p:blipFill>
        <p:spPr>
          <a:xfrm>
            <a:off x="228600" y="609480"/>
            <a:ext cx="229248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Ј ДОКУМЕНТАЦИЈИ И  Е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АМ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ЗДРАВСТВ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200"/>
            </a:b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ује с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0" y="2057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виденције 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и здравс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и садржина здравствене документације и евиденциј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 поступак вође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овлашћена за вођење здравствене документације и унос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ви за достављање и обраду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располагања подацима из медицинске документације пацијената која се користи за обраду подата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квалитет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штит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вањ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итања од значаја за вођење здравствене документације и евиден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228600" y="603360"/>
            <a:ext cx="87343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тна пракс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е социјал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 за извршење заводских санк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и здравствене струке који обављају одређене послове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делат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равна лица која обављају одређене послове здравствене делатности у складу са законом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ни су да воде здравствену документацију и евиденцију и да у прописаним роковима достављају индивидуалне, збирне и  периодичне извештаје надлежном заводу, односно институту за јавно  здравље, као и другим организацијама на начин прописан посебним Законом,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3" name="Picture 3" descr="C:\Users\Mirjana Petrovic\Desktop\5-3.jpg"/>
          <p:cNvPicPr/>
          <p:nvPr/>
        </p:nvPicPr>
        <p:blipFill>
          <a:blip r:embed="rId1"/>
          <a:stretch/>
        </p:blipFill>
        <p:spPr>
          <a:xfrm>
            <a:off x="6705720" y="457200"/>
            <a:ext cx="160020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28240" y="1447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рантована је тајност података из медицинске документације пацијената која се обрађује и доставља за индивидуалне, збирне и периодичне извештаје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, приватна пракса, као и друга правна лица дужна су да чувају медицинску документацију пацијената од неовлашћеног приступа, копирања и злоупотребе, независно од облика у коме су подаци из медицинске документације сачувани (папир, микрофилм, оптички и ласер дискови, магнетни медији и др)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здравствене документације и унос података у здравствену документацију искључиво обављају овлашћена лица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служи евиденција у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здравствене заштите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здравственог стања пацијен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проучавање здравственог стања становништ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звршавања обавеза свих субјекат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ресурс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стално унапређење квалитет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Финансирањ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ланирање и програмирање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оцењивање спровођења планова и програм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Спровођење статистичких и научних истраживања; информисање јав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Извршавање међународних обавеза у области здравства и  за развој система здравствене заштите и здравственог осигура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 документ је сваки документ настао у здравственој установи, који садржи податке о здравственом стању пацијента, као и о начину пружања здравствене заштите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их писаних или на други начин приређених докумената (на електронском медију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9" name="Picture 11" descr="ANd9GcT17j7RDTNzdI9n0rziNN2JjqivYTHZjAMPI7FY3KO_xHPF1MU-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0" name="Picture 4" descr="C:\Users\Mirjana Petrovic\Desktop\unnamed (4).jpg"/>
          <p:cNvPicPr/>
          <p:nvPr/>
        </p:nvPicPr>
        <p:blipFill>
          <a:blip r:embed="rId2"/>
          <a:stretch/>
        </p:blipFill>
        <p:spPr>
          <a:xfrm>
            <a:off x="6248520" y="5105520"/>
            <a:ext cx="2895480" cy="15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 txBox="1"/>
          <p:nvPr/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Информациони систем”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 свеобухватни скуп технолошке инфраструктуре (мрежне, софтверске и хардверске компоненте), организације, људи и поступака за прикупљање, смештање, обраду, чување, пренос, приказивање и коришћење података и ин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2" name="Picture 3" descr="C:\Users\Mirjana Petrovic\Desktop\medicinska-dokumentacija-big.jpg"/>
          <p:cNvPicPr/>
          <p:nvPr/>
        </p:nvPicPr>
        <p:blipFill>
          <a:blip r:embed="rId1"/>
          <a:stretch/>
        </p:blipFill>
        <p:spPr>
          <a:xfrm>
            <a:off x="5257800" y="3886200"/>
            <a:ext cx="3352680" cy="223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0" y="1341360"/>
            <a:ext cx="91440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и здравствени информациони сис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планирања и ефикасног управљања системом здравствене заштите, као и прикупљања и обраде података у вези са здравственим стањем становништва и функционисањем здравствене службе, односно прикупљања и обраде здравствених информација, организује се и развија интегрисани здравствени информациони систем у Републиц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 рада, развоја и организације интегрисаног здравственог информационог система, као и садржај здравствених информација доноси Влад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568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воде уписивањем података у основну здравствену документациј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ћна средства за вођење евиденциј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сновне здравствене документације и евиденција и помоћних средстава за вођење евиденција израђују  се  индивидуални и збирни извештај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генеришу из дневне и месечне евиденције података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7" name="Picture 2" descr="D:\Users\Mirjana Janicijevic\Desktop\zdravstvena-zastita-odrasli-800x250.jpg"/>
          <p:cNvPicPr/>
          <p:nvPr/>
        </p:nvPicPr>
        <p:blipFill>
          <a:blip r:embed="rId1"/>
          <a:stretch/>
        </p:blipFill>
        <p:spPr>
          <a:xfrm>
            <a:off x="4648320" y="5224320"/>
            <a:ext cx="4190760" cy="13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10" name="Picture 3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095560" cy="287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1" name="Picture 2" descr=""/>
          <p:cNvPicPr/>
          <p:nvPr/>
        </p:nvPicPr>
        <p:blipFill>
          <a:blip r:embed="rId2"/>
          <a:stretch/>
        </p:blipFill>
        <p:spPr>
          <a:xfrm>
            <a:off x="6705720" y="4648320"/>
            <a:ext cx="209556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2" name="Rectangle 3"/>
          <p:cNvSpPr/>
          <p:nvPr/>
        </p:nvSpPr>
        <p:spPr>
          <a:xfrm>
            <a:off x="0" y="1684440"/>
            <a:ext cx="69343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г. п.н.е. Месопотамија „колевка цивилизације“, писано клинастим писмом на глиненим плочицам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800 глинених плоча посвећено  медици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лочици пронађеној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</a:t>
            </a:r>
            <a:r>
              <a:rPr b="0" lang="sr-R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ипуру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старији писани медицински документ)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бележено неколико рецепата за лечењ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3000 г. п.н.е. староегипатска култура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ируси Кахуански, Еберсов и Смит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6" descr=""/>
          <p:cNvPicPr/>
          <p:nvPr/>
        </p:nvPicPr>
        <p:blipFill>
          <a:blip r:embed="rId3"/>
          <a:stretch/>
        </p:blipFill>
        <p:spPr>
          <a:xfrm>
            <a:off x="2514600" y="5105520"/>
            <a:ext cx="3429000" cy="149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видуални извештај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80880" y="1523880"/>
            <a:ext cx="87631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 личних и медицинских података о пацијенту  или појединачних података о ресурсима  здравственог система, о здравственој установи, приватној пракси и другим правним  лици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бирни извештај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збирних  података који могу да се односе на пацијенте,  ресурсе здравственог система, здравствене установе, приватну праксу и друга правна лиц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-380880" y="7621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к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формација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1" name="AutoShape 32"/>
          <p:cNvSpPr/>
          <p:nvPr/>
        </p:nvSpPr>
        <p:spPr>
          <a:xfrm>
            <a:off x="6948360" y="393372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5"/>
          <p:cNvSpPr/>
          <p:nvPr/>
        </p:nvSpPr>
        <p:spPr>
          <a:xfrm>
            <a:off x="7380360" y="1557360"/>
            <a:ext cx="2168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Group 34"/>
          <p:cNvGrpSpPr/>
          <p:nvPr/>
        </p:nvGrpSpPr>
        <p:grpSpPr>
          <a:xfrm>
            <a:off x="3657600" y="765000"/>
            <a:ext cx="5729040" cy="5430240"/>
            <a:chOff x="3657600" y="765000"/>
            <a:chExt cx="5729040" cy="5430240"/>
          </a:xfrm>
        </p:grpSpPr>
        <p:grpSp>
          <p:nvGrpSpPr>
            <p:cNvPr id="1364" name="Group 44"/>
            <p:cNvGrpSpPr/>
            <p:nvPr/>
          </p:nvGrpSpPr>
          <p:grpSpPr>
            <a:xfrm>
              <a:off x="6516720" y="1413000"/>
              <a:ext cx="2869920" cy="4782240"/>
              <a:chOff x="6516720" y="1413000"/>
              <a:chExt cx="2869920" cy="4782240"/>
            </a:xfrm>
          </p:grpSpPr>
          <p:pic>
            <p:nvPicPr>
              <p:cNvPr id="1365" name="Picture 34" descr="j0299125"/>
              <p:cNvPicPr/>
              <p:nvPr/>
            </p:nvPicPr>
            <p:blipFill>
              <a:blip r:embed="rId1"/>
              <a:stretch/>
            </p:blipFill>
            <p:spPr>
              <a:xfrm>
                <a:off x="7602840" y="1413000"/>
                <a:ext cx="1009080" cy="143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Rectangle 39"/>
              <p:cNvSpPr/>
              <p:nvPr/>
            </p:nvSpPr>
            <p:spPr>
              <a:xfrm>
                <a:off x="6516720" y="5796720"/>
                <a:ext cx="286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С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47"/>
            <p:cNvGrpSpPr/>
            <p:nvPr/>
          </p:nvGrpSpPr>
          <p:grpSpPr>
            <a:xfrm>
              <a:off x="3657600" y="765000"/>
              <a:ext cx="3363480" cy="5040000"/>
              <a:chOff x="3657600" y="765000"/>
              <a:chExt cx="3363480" cy="5040000"/>
            </a:xfrm>
          </p:grpSpPr>
          <p:pic>
            <p:nvPicPr>
              <p:cNvPr id="1368" name="Picture 30" descr="j0205462"/>
              <p:cNvPicPr/>
              <p:nvPr/>
            </p:nvPicPr>
            <p:blipFill>
              <a:blip r:embed="rId2"/>
              <a:stretch/>
            </p:blipFill>
            <p:spPr>
              <a:xfrm>
                <a:off x="5252400" y="765000"/>
                <a:ext cx="1622520" cy="16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Rectangle 37"/>
              <p:cNvSpPr/>
              <p:nvPr/>
            </p:nvSpPr>
            <p:spPr>
              <a:xfrm>
                <a:off x="3657600" y="5398200"/>
                <a:ext cx="33634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егионални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вод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0" name="Group 32"/>
          <p:cNvGrpSpPr/>
          <p:nvPr/>
        </p:nvGrpSpPr>
        <p:grpSpPr>
          <a:xfrm>
            <a:off x="-228600" y="1066680"/>
            <a:ext cx="7184880" cy="4564080"/>
            <a:chOff x="-228600" y="1066680"/>
            <a:chExt cx="7184880" cy="4564080"/>
          </a:xfrm>
        </p:grpSpPr>
        <p:sp>
          <p:nvSpPr>
            <p:cNvPr id="1371" name="Rectangle 7"/>
            <p:cNvSpPr/>
            <p:nvPr/>
          </p:nvSpPr>
          <p:spPr>
            <a:xfrm>
              <a:off x="152280" y="2867040"/>
              <a:ext cx="2050920" cy="180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ДРАВСТВЕНА ДОКУМЕНТАЦИЈА И ЕВИДЕНЦИЈ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3399"/>
                </a:buClr>
                <a:buSzPct val="6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AutoShape 8"/>
            <p:cNvSpPr/>
            <p:nvPr/>
          </p:nvSpPr>
          <p:spPr>
            <a:xfrm>
              <a:off x="2276280" y="3298680"/>
              <a:ext cx="917640" cy="504720"/>
            </a:xfrm>
            <a:custGeom>
              <a:avLst/>
              <a:gdLst>
                <a:gd name="textAreaLeft" fmla="*/ 142920 w 917640"/>
                <a:gd name="textAreaRight" fmla="*/ 803520 w 91764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Picture 28" descr="j0235319"/>
            <p:cNvPicPr/>
            <p:nvPr/>
          </p:nvPicPr>
          <p:blipFill>
            <a:blip r:embed="rId3"/>
            <a:stretch/>
          </p:blipFill>
          <p:spPr>
            <a:xfrm>
              <a:off x="403200" y="1066680"/>
              <a:ext cx="151128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Rectangle 36"/>
            <p:cNvSpPr/>
            <p:nvPr/>
          </p:nvSpPr>
          <p:spPr>
            <a:xfrm>
              <a:off x="-228600" y="527040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Здравствен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установ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9"/>
            <p:cNvSpPr/>
            <p:nvPr/>
          </p:nvSpPr>
          <p:spPr>
            <a:xfrm>
              <a:off x="3571920" y="3227400"/>
              <a:ext cx="1873080" cy="59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Индивидуал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10"/>
            <p:cNvSpPr/>
            <p:nvPr/>
          </p:nvSpPr>
          <p:spPr>
            <a:xfrm>
              <a:off x="3546360" y="3801960"/>
              <a:ext cx="1585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Збирни периодич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"/>
            <p:cNvSpPr/>
            <p:nvPr/>
          </p:nvSpPr>
          <p:spPr>
            <a:xfrm>
              <a:off x="3211560" y="2722320"/>
              <a:ext cx="3981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8" name="Picture 33" descr="j0195384"/>
            <p:cNvPicPr/>
            <p:nvPr/>
          </p:nvPicPr>
          <p:blipFill>
            <a:blip r:embed="rId4"/>
            <a:stretch/>
          </p:blipFill>
          <p:spPr>
            <a:xfrm>
              <a:off x="5803920" y="3370320"/>
              <a:ext cx="11523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AutoShape 49"/>
            <p:cNvSpPr/>
            <p:nvPr/>
          </p:nvSpPr>
          <p:spPr>
            <a:xfrm>
              <a:off x="5155920" y="4017960"/>
              <a:ext cx="576360" cy="288720"/>
            </a:xfrm>
            <a:prstGeom prst="rightArrow">
              <a:avLst>
                <a:gd name="adj1" fmla="val 50000"/>
                <a:gd name="adj2" fmla="val 499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Group 33"/>
          <p:cNvGrpSpPr/>
          <p:nvPr/>
        </p:nvGrpSpPr>
        <p:grpSpPr>
          <a:xfrm>
            <a:off x="7315200" y="3441600"/>
            <a:ext cx="2057400" cy="3416400"/>
            <a:chOff x="7315200" y="3441600"/>
            <a:chExt cx="2057400" cy="3416400"/>
          </a:xfrm>
        </p:grpSpPr>
        <p:sp>
          <p:nvSpPr>
            <p:cNvPr id="1381" name="AutoShape 35"/>
            <p:cNvSpPr/>
            <p:nvPr/>
          </p:nvSpPr>
          <p:spPr>
            <a:xfrm>
              <a:off x="7315200" y="3441600"/>
              <a:ext cx="1744560" cy="166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Обр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убликовањ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2" name="Picture 31" descr="logo"/>
            <p:cNvPicPr/>
            <p:nvPr/>
          </p:nvPicPr>
          <p:blipFill>
            <a:blip r:embed="rId5"/>
            <a:stretch/>
          </p:blipFill>
          <p:spPr>
            <a:xfrm>
              <a:off x="8832960" y="631836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ДОКУМЕНТАЦИЈА И ЕВИДЕНЦИЈА, ИЗВЕШТАВАЊЕ У ОБЛАСТИ ПРИМАРНЕ ЗДРАВСТВЕНЕ ЗАШТИТ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84" name="Picture 5" descr="C:\Users\Mirjana Petrovic\Desktop\unnamed (1).jpg"/>
          <p:cNvPicPr/>
          <p:nvPr/>
        </p:nvPicPr>
        <p:blipFill>
          <a:blip r:embed="rId1"/>
          <a:stretch/>
        </p:blipFill>
        <p:spPr>
          <a:xfrm>
            <a:off x="1828800" y="3505320"/>
            <a:ext cx="5477040" cy="29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86" name="Group 33"/>
          <p:cNvGrpSpPr/>
          <p:nvPr/>
        </p:nvGrpSpPr>
        <p:grpSpPr>
          <a:xfrm>
            <a:off x="6324480" y="1523880"/>
            <a:ext cx="1094040" cy="4680000"/>
            <a:chOff x="6324480" y="1523880"/>
            <a:chExt cx="1094040" cy="4680000"/>
          </a:xfrm>
        </p:grpSpPr>
        <p:sp>
          <p:nvSpPr>
            <p:cNvPr id="1387" name="Rectangle 24"/>
            <p:cNvSpPr/>
            <p:nvPr/>
          </p:nvSpPr>
          <p:spPr>
            <a:xfrm>
              <a:off x="6324480" y="1523880"/>
              <a:ext cx="1094040" cy="4680000"/>
            </a:xfrm>
            <a:prstGeom prst="rect">
              <a:avLst/>
            </a:prstGeom>
            <a:noFill/>
            <a:ln w="936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WordArt 26"/>
            <p:cNvSpPr txBox="1"/>
            <p:nvPr/>
          </p:nvSpPr>
          <p:spPr>
            <a:xfrm rot="16200000">
              <a:off x="5578920" y="3504960"/>
              <a:ext cx="2793960" cy="61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Times New Roman"/>
                </a:rPr>
                <a:t>ИЗВЕШТАЈИ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389" name="Group 35"/>
          <p:cNvGrpSpPr/>
          <p:nvPr/>
        </p:nvGrpSpPr>
        <p:grpSpPr>
          <a:xfrm>
            <a:off x="990720" y="4419720"/>
            <a:ext cx="5479560" cy="1154160"/>
            <a:chOff x="990720" y="4419720"/>
            <a:chExt cx="5479560" cy="1154160"/>
          </a:xfrm>
        </p:grpSpPr>
        <p:sp>
          <p:nvSpPr>
            <p:cNvPr id="1390" name="Rectangle 21"/>
            <p:cNvSpPr/>
            <p:nvPr/>
          </p:nvSpPr>
          <p:spPr>
            <a:xfrm>
              <a:off x="990720" y="4419720"/>
              <a:ext cx="4419360" cy="1154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МОЋНА СРЕДСТА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ОЂЕЊЕ ЕВИДЕН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28"/>
            <p:cNvSpPr/>
            <p:nvPr/>
          </p:nvSpPr>
          <p:spPr>
            <a:xfrm flipV="1">
              <a:off x="4983840" y="4624200"/>
              <a:ext cx="1486440" cy="287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34"/>
          <p:cNvGrpSpPr/>
          <p:nvPr/>
        </p:nvGrpSpPr>
        <p:grpSpPr>
          <a:xfrm>
            <a:off x="1066680" y="2057400"/>
            <a:ext cx="5492520" cy="1171440"/>
            <a:chOff x="1066680" y="2057400"/>
            <a:chExt cx="5492520" cy="1171440"/>
          </a:xfrm>
        </p:grpSpPr>
        <p:sp>
          <p:nvSpPr>
            <p:cNvPr id="1393" name="Rectangle 20"/>
            <p:cNvSpPr/>
            <p:nvPr/>
          </p:nvSpPr>
          <p:spPr>
            <a:xfrm>
              <a:off x="1066680" y="2057400"/>
              <a:ext cx="4267800" cy="11714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СНОВНА МЕДИЦИНС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ДОКУМЕНТ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27"/>
            <p:cNvSpPr/>
            <p:nvPr/>
          </p:nvSpPr>
          <p:spPr>
            <a:xfrm>
              <a:off x="5028840" y="2361960"/>
              <a:ext cx="1530360" cy="792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24000" y="1449360"/>
            <a:ext cx="85914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дравствени кар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а евид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09040" cy="29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3429000" cy="233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5"/>
          <p:cNvSpPr/>
          <p:nvPr/>
        </p:nvSpPr>
        <p:spPr>
          <a:xfrm>
            <a:off x="304920" y="1877400"/>
            <a:ext cx="861696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c00000"/>
                </a:solidFill>
                <a:uFillTx/>
                <a:latin typeface="Times New Roman"/>
              </a:rPr>
              <a:t>Здравствени карт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новни медицински документ који се во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изабраног лекара по областима здравствене заштите, за сваког пацијента коме се пружа здравствена заштита, осим за пролазне пације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 картон прати сваког пацијента током целог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здравственом картону одговаран је изабрани лекар, односно  лекар специјалиста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га је изабрани лекар пренео овлашћењ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13960" cy="1054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"/>
          <p:cNvSpPr/>
          <p:nvPr/>
        </p:nvSpPr>
        <p:spPr>
          <a:xfrm>
            <a:off x="0" y="77580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равствени картон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 води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бластим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опште медицине и медицине ра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предшколске де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школске деце и омла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неумофтизиолошке зашти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оливалентне патронаже (Здравствени картон породице и патронажни ли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стоматолошке здравствене зашти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524720" cy="1065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5"/>
          <p:cNvSpPr/>
          <p:nvPr/>
        </p:nvSpPr>
        <p:spPr>
          <a:xfrm>
            <a:off x="228600" y="574200"/>
            <a:ext cx="891540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за децу која се обавезно вакцинишу, сагласно прописима о заштити становништва од заразних болести, као и програму обавезних имунизација становништва против заразних боле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се отвара приликом давања прве вакцине де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прати дете до 18. године живота, односно до потпуног спровођења програма обавезних имунизација становништва против заразних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картону имунизације одговаран је надлежни здравствени ра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01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2"/>
          <p:cNvSpPr/>
          <p:nvPr/>
        </p:nvSpPr>
        <p:spPr>
          <a:xfrm>
            <a:off x="0" y="566640"/>
            <a:ext cx="914400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 u="sng">
                <a:solidFill>
                  <a:srgbClr val="d34817"/>
                </a:solidFill>
                <a:uFillTx/>
                <a:latin typeface="Times New Roman"/>
              </a:rPr>
              <a:t>ОСНОВНА МЕДИЦИНСКА ДОКУМЕНТАЦ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Води се у здр. установама, приватној пракси и другом правном лицу при пружању здравствених услуга и предузимању медицинских мера када се за пацијента не отвара здравствени карто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пролазне пациј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интревен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пеци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листичко-консултативним служб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Хитне медицинске по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дијагностичким службама (лабораторија, рентген,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здравствену не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кућне посете здравствених рад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ри обављању здравствено васпитног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лучају прегледа лица ради издавања лекарских у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регистровање нежељених реакција на лекове и медицинска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скрин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228600" y="929880"/>
            <a:ext cx="8915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А МЕДИЦИНСКА 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е евиденци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приликом утврђивања одређених болести или стања, као и пружања здравствених услуга и вод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вези 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разних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већег јавно -здравственог знач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 стерил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м догађај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де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 стар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лица која су лишена слободе у складу са зако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931160" cy="99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250560" y="1828440"/>
            <a:ext cx="8512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у познату медицинску документацију  развио ј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 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 п.н.е., циљеви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а  документација треба тачно да рефлектује  ток болести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 на могуће узроке болести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папирне медицинске документације  кретао се паралелно  с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ем медицинске науке и образовања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штају о медицинском  образовању из 1910.  године,  први  пут су формално представљени  функција  и садржаји медицинске документације, и лекари су охрабривани да чувају податке о пацијенту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17" name="Picture 7" descr="Резултат слика за hipokr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8360" y="225360"/>
            <a:ext cx="171756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МОЋНА СРЕДСТВА ЗА ВОЂЕЊЕ ЕВИД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менти који се користе да би се олакшало добија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 о протоку пацијената и сачињавали извештаји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картоте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евиденција о посетама и рад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а заказивања прегледа, дијагностичких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и других медицинских мера и поступа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152280" y="1765080"/>
            <a:ext cx="8991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ПОМОЋНА СРЕДСТВА ЗА ВОЂЕЊЕ ЕВИДЕНЦ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истар карт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и се као азбучни регистар  (азбучним редом по презимену и имену, према броју здравственог карт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 која води здравствене карт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31160" cy="807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12" name="Picture 4" descr="D:\Users\Mirjana Janicijevic\Desktop\3364042_2019021903020_5c6b634eb789684ea0003910jpeg_ls.jpg"/>
          <p:cNvPicPr/>
          <p:nvPr/>
        </p:nvPicPr>
        <p:blipFill>
          <a:blip r:embed="rId1"/>
          <a:stretch/>
        </p:blipFill>
        <p:spPr>
          <a:xfrm>
            <a:off x="6095880" y="4800600"/>
            <a:ext cx="2743200" cy="18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0" y="243828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а евиденција о посетама и раду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сетама и раду и служи за евидентирање свих посета остварених у једном дану (прве и поновне), а на основу којих се сачињавају месечни, квартални и годишњи збирни извештаји, и води се у установама које пружају ванболничку и специјалистичко-консултативну здравствену зашти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0" y="1752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о утврђеним обољењима и стањима и служи за евидентирање свих завршних дијагноза постављених у једном дану (епизода лечења), а на основу којих се сачињавају месечни, квартални и годишњи збирни извештаји и води се у установама које пружају ванболничку и специјалистичко-консултативну здравствену заштиту.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17" name="Picture 2" descr="D:\Users\Mirjana Janicijevic\Desktop\5844489_pixjpg.jpg"/>
          <p:cNvPicPr/>
          <p:nvPr/>
        </p:nvPicPr>
        <p:blipFill>
          <a:blip r:embed="rId1"/>
          <a:stretch/>
        </p:blipFill>
        <p:spPr>
          <a:xfrm>
            <a:off x="6019920" y="4419720"/>
            <a:ext cx="2857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04560" y="14479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денција заказивања прегледа, дијагностичких процедура и других медицинских мера и поступа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и се за здравствене услуге за које не постоје услови да се пруже одмах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20" name="Picture 5" descr="C:\Users\Mirjana Petrovic\Desktop\zdravstvena-zastita-u-domovima-za-stare-542bd.jpg"/>
          <p:cNvPicPr/>
          <p:nvPr/>
        </p:nvPicPr>
        <p:blipFill>
          <a:blip r:embed="rId1"/>
          <a:stretch/>
        </p:blipFill>
        <p:spPr>
          <a:xfrm>
            <a:off x="3927600" y="3429000"/>
            <a:ext cx="4759200" cy="316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28600" y="19051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а су да на основу здравствене документације и евиденција коју воде, сачине и доставе прописане индивидуалне и збирне извештаје надлежном заводу, односно институту за јавно здравље и организацији здравственог осигурања у роковима утврђеним закон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ака у извештајима одговоран је надлежни здравствени радник, односно здравствени сарадник и друго овлашћено лице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24" name="Diagram 1" descr=""/>
          <p:cNvPicPr/>
          <p:nvPr/>
        </p:nvPicPr>
        <p:blipFill>
          <a:blip r:embed="rId1"/>
          <a:stretch/>
        </p:blipFill>
        <p:spPr>
          <a:xfrm>
            <a:off x="152280" y="1407960"/>
            <a:ext cx="858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250560" y="106668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малигних тумор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шећер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Б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роничних психоз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акутног коронарног синдро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зависно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цереброваскулар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са инвалидитетом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ретк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и трауматизм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која су претрпела повреду на рад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професионал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 са сметњама у развој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лим особ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умр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ТБЦ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250560" y="182844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ИВ/АИДС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анемаривање и злостављање дец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ји зараз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вакциналним комликац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ма пружања здравствених услуг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м радницима, здравственим сарадницима и осталим запосленим (пријава, пријава промене, одјава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о-комуникационим технолог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обољењима и стањима ако се утврди да су од значаја за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br>
              <a:rPr sz="25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Збирни извештаји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572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посетама и рад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утврђеним обољењима и стањим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рганизационој структури, кадровима опрем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и квалитет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 txBox="1"/>
          <p:nvPr/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кумент је сваки материјални медиј који је носилац информација. Он је сведочанство неких чи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ница, догађаја, предмета, појава или других облика људске делатности из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жено у писму, графици, цртежу, слици, звучним записима, или у неком другом облику на одговарајућем материјал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Вођење медицинске документације је законска обавеза свих здравствених радника јер се на тај начин обезбеђују  докази о предузетим активностима на лечењу пацијената, као и правна сигурност како корисника тако и даваоца здравствених услуга, да је за унапређење здравља пацијената предузето све што је потребно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и лица оболелих од болести и стања већег јавноздравственог значај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, односно институти за јавно здравље дужни су да воде регистре лица оболелих од болести и стања од већег јавно-здравственог значаја (на основу индивидуалних извештаја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се води за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лица оболела од малигних тумор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ица оболела од шеће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ица оболела од хроничне бубрежне инсуфицијенције (укључујући и податке о дијализи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ца оболела од хроничне псих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лица оболела од акутног коронарног синдром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ица оболела од болести зависно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лица оболела од цереброваскула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лица са инвалидитето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лица оболела од ретких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ица са повредама и трауматизм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лица која су претрпела повреду на рад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лица која су оболела од професионал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децу са сметњом у развој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 лица код којих је извршена трансплантација (органа, ткива, ћелија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) лица оболела од туберкул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) лица оболела од ХИВ/АИД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) лица у програму биомедицински потпомогнуте оплодње - БМПО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) лица оболела од друге болести ако се утврди да су од значаја за здравље становништв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228600" y="19047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и су да индивидуалне извештаје достављају надлежно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у/институту за јавно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најкасније до десетог у месецу за претходни месе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болелим од заразних болести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ставља се одма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видентирању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е збирне извештаје  достављају квартално надлежном заводу, односно институту за јавно здравље, најкасније д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 месецу за претходни квартал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5" name="Picture 2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4382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28240" y="3428640"/>
            <a:ext cx="8001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Институт за јавно здравље Србије Др Милан Јовановић Батут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представља највишу инстанцу којој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се прослеђују извештаји о раду из свих здравствених установа са територије Републике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8" name="Picture 3" descr=""/>
          <p:cNvPicPr/>
          <p:nvPr/>
        </p:nvPicPr>
        <p:blipFill>
          <a:blip r:embed="rId1"/>
          <a:stretch/>
        </p:blipFill>
        <p:spPr>
          <a:xfrm>
            <a:off x="6816600" y="152280"/>
            <a:ext cx="232740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9" name="Picture 5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132760" cy="135720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6" descr="C:\Users\Mirjana Petrovic\Desktop\depositphotos_203665714-stock-video-doctors-hands-writing-on-medical.jpg"/>
          <p:cNvPicPr/>
          <p:nvPr/>
        </p:nvPicPr>
        <p:blipFill>
          <a:blip r:embed="rId3"/>
          <a:stretch/>
        </p:blipFill>
        <p:spPr>
          <a:xfrm>
            <a:off x="5775480" y="4800600"/>
            <a:ext cx="33685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22824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обједињује податке из индивидуалних и збирних извештаја које достављају заводи, односно институти за јавно здравље и формира одговарајуће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ладу са законом и прописима донетим за спровођење овог закон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дужан је да обрађене збирне извештаје достави министарству надлежном за послове здравља и другим надлежним органима, организацијама и установама за претходну годин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ђене збирне податке према прописаној методологији завод за јавно здравље основан за територију Републике Србије, дужан је да стави на увид јавности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43" name="Picture 3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2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228240" y="637920"/>
            <a:ext cx="891540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цеп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пут за специјалистичко-консултативн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пут за лабораторијски и други дијагностичк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нтерни упут (за ампулирану терапију, превијање, кућно лечење, поливалентну патронажну службу, саветовалишта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пут за стационарно лечењ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абораторијски нала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упут за лекарску комисиј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упут за прописивање медицинско-техничког помагал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br>
              <a:rPr sz="25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2819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налаз и мишљење здравственог радника или здравственог сарадника односно лекарске комис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екарско увере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извештај о привременој спречености за рад и потвр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санитарна књижи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здравствена испра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380880" y="9140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чувају здравствену документацију и евиденције у роковима утврђеним законом, као и прописима којима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457200" y="297180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по престанку обављања здравствене делатности, односно брисања из регистра надлежног органа, предају на чување здравствену документацију и евиденције надлежном архиву у складу са законом којим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Picture 4" descr="C:\Users\Mirjana Petrovic\Desktop\unnamed (2).jpg"/>
          <p:cNvPicPr/>
          <p:nvPr/>
        </p:nvPicPr>
        <p:blipFill>
          <a:blip r:embed="rId1"/>
          <a:stretch/>
        </p:blipFill>
        <p:spPr>
          <a:xfrm>
            <a:off x="5105520" y="4648320"/>
            <a:ext cx="294624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1" name="Picture 2" descr="C:\Users\Katarina\Desktop\Zdrastveni karton\karto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Picture 2" descr="C:\Users\Katarina\Desktop\Zdrastveni karton\karton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Picture 2" descr="C:\Users\Katarina\Desktop\Zdrastveni karton\karton 3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Perpetua"/>
              </a:rPr>
              <a:t>Медицинска документација садржи информације које се односе на здравствену заштиту појединца, и које су сложене у неколико група</a:t>
            </a:r>
            <a:r>
              <a:rPr b="1" lang="sr-RS" sz="26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Лични и основни социјалнодемогтафски подаци (име, узраст, пол, место боравка, занимање, најближи сродник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Клиничке информације (симптоми, знаци, резултати тестова, дијагнозе, начин лечења, напредовање болести, исход лече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Економске информације (начин плаћања, врста здравственог осигура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Административни подаци (место пружања задравствене заштите, здравствена установа, тип услуге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Бихевиорални подаци (одбијање односно давање сагласности за одређен начин лечења, долазак или не долазак на прегледе, прекидање терапије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..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Picture 2" descr="C:\Users\Katarina\Desktop\Zdrastveni karton\karton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Users\Katarina\Desktop\socijalna kme\Naslovna1.jpg"/>
          <p:cNvPicPr/>
          <p:nvPr/>
        </p:nvPicPr>
        <p:blipFill>
          <a:blip r:embed="rId2"/>
          <a:stretch/>
        </p:blipFill>
        <p:spPr>
          <a:xfrm>
            <a:off x="5638680" y="3429000"/>
            <a:ext cx="32004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7" name="Picture 2" descr="C:\Users\Katarina\Desktop\Zdrastveni karton\ulozak kartona 2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9" name="Picture 2" descr="C:\Users\Katarina\Desktop\Zdrastveni karton\ulozak kartona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ХВАЛА НА ПАЖЊИ!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61" name="Picture 5" descr="C:\Users\Mirjana Petrovic\Desktop\unnamed (6).jpg"/>
          <p:cNvPicPr/>
          <p:nvPr/>
        </p:nvPicPr>
        <p:blipFill>
          <a:blip r:embed="rId1"/>
          <a:stretch/>
        </p:blipFill>
        <p:spPr>
          <a:xfrm>
            <a:off x="685800" y="3276720"/>
            <a:ext cx="777240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Здравствена документациј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и евиденција воде се у писменом или електронском облику!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21" name="Picture 3" descr="C:\Users\Mirjana Petrovic\Desktop\1-primena-novog-zakona-o-zdravstvenoj-dokumentaciji-i-evidencijama-u-oblasti-zdravstva.jpg"/>
          <p:cNvPicPr/>
          <p:nvPr/>
        </p:nvPicPr>
        <p:blipFill>
          <a:blip r:embed="rId1"/>
          <a:stretch/>
        </p:blipFill>
        <p:spPr>
          <a:xfrm>
            <a:off x="380880" y="3124080"/>
            <a:ext cx="41148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2" name="Picture 4" descr="C:\Users\Mirjana Petrovic\Desktop\unnamed (3).jpg"/>
          <p:cNvPicPr/>
          <p:nvPr/>
        </p:nvPicPr>
        <p:blipFill>
          <a:blip r:embed="rId2"/>
          <a:stretch/>
        </p:blipFill>
        <p:spPr>
          <a:xfrm>
            <a:off x="4876920" y="3124080"/>
            <a:ext cx="3924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63760"/>
                <a:gridCol w="5880240"/>
              </a:tblGrid>
              <a:tr h="55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ирн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 лако да се но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и велика слобода у записивању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хтева специјалну обуку за вођење докумен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иштење које обезбеђује да се подаци неће изгубити или промен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ђује приват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ост и конфуз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ње приликом нош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ће у проналажењу информ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или немогућност размене информација између различитих давалаца ус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овани и неинтегрисани подаци могу водити губитку континуитета у здравственој зашт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кови чувања су вел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а и електронска медицинска документациј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68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116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ше подржава истраживања и омогућава дуготрајну доступ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еди физички простор, омогућава електронску размену података и редукује трошкове система 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гућава приступ са више места истовремено, већа је доступност података и лакша је читљив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ноставније је креирање јединствене документације о  корис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жава структуирана унос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матска провера уноса података, правопис и прописане рецепте, и упозорава на гре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трошкови приликом увођења, и ограничени ресурси здравствених уст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ак компијутерских вештина запослених и експертизе од надлежног особ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ор здравствених радника и других здравствених професионалаца да прихвате електронску документацију уместо папир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„људскости“ немогућност уношења сопственог мишљења и погледа на пациј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медицинске документације јесте законска обавеза свих здравствених рад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04560" y="2209680"/>
            <a:ext cx="8839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 о предузетим активностима на лечењу пациј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на сигурност (корисника и даваоца здравствених услуг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евиденција, састављање и достављање прописаних извештаја саставни је део стручног медицинског рада здравствених организ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2:37:20Z</dcterms:created>
  <dc:creator>Ceca</dc:creator>
  <dc:description/>
  <dc:language>en-US</dc:language>
  <cp:lastModifiedBy>Mirjana Petrovic</cp:lastModifiedBy>
  <dcterms:modified xsi:type="dcterms:W3CDTF">2021-08-31T07:54:18Z</dcterms:modified>
  <cp:revision>218</cp:revision>
  <dc:subject/>
  <dc:title>PowerPoint Presentation</dc:title>
</cp:coreProperties>
</file>